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8EF-740B-47CE-B5B7-861D3BC6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4EDC-1EFA-40F8-86FA-0A4E494F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8BC-3616-4987-BF3C-6080A8FC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6AE-B7F9-4EC2-A96C-506F46AA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DED-8EF0-41F3-B373-78AD7106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9E3-E6CA-4F96-A7A1-C1E2B06A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0B1-000E-4D96-A5DE-7B8EF35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D64-1E4A-4C0E-8FC6-07AB7548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8EB-34B6-4BC1-B486-9D2AF98B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977-1804-42C5-AEF1-BF948DAC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C8E-ACF2-4966-922E-D5A550DC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71A-C222-4167-8C06-593D7654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E6AC-4326-49C1-9844-F9E89B10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ild with 43,426 papers, 44,690 abstracts and 3.2 million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ort textpresso to a DBMS (mysql 5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02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LA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ata in 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0" t="14814" r="3921" b="5556"/>
          <a:stretch/>
        </p:blipFill>
        <p:spPr>
          <a:xfrm>
            <a:off x="457200" y="175248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7:36:52Z</dcterms:created>
  <dc:creator>Stan Dong</dc:creator>
  <dc:description/>
  <dc:language>en-US</dc:language>
  <cp:lastModifiedBy>Qing Dong</cp:lastModifiedBy>
  <dcterms:modified xsi:type="dcterms:W3CDTF">2006-06-28T01:54:43Z</dcterms:modified>
  <cp:revision>7</cp:revision>
  <dc:subject/>
  <dc:title>GMOD Meeting</dc:title>
</cp:coreProperties>
</file>